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8805-EAD3-4BD1-BF54-A7900E83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7195-BCED-4304-9B44-DC7F8CE0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0FA-B55D-4FE7-AAFE-3E0AEF60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D905-4F93-4A9B-9644-1DDD36A8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9DB4-193B-46FF-943F-7543AA0F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06C-60F5-4C4F-BD2A-3061E276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90F5-E26B-4A63-8607-32CD28C3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42A-78E8-4BD0-8F45-02AB98B0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FF03-35AF-41B3-8333-AAB0946B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5AF0-C7D5-4D14-950C-794EBD7B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FECD-85CA-4232-80AE-F58223B4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F346-9505-4E3E-981C-FC831A9F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A4AE-E0A4-40CA-AE1C-C486B2F8F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lake 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29760" y="167652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A Greek city-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http://farm4.static.flickr.com/3500/3234068659_b21cbe0dd4.jpg"/>
          <p:cNvPicPr/>
          <p:nvPr/>
        </p:nvPicPr>
        <p:blipFill>
          <a:blip r:embed="rId1"/>
          <a:stretch/>
        </p:blipFill>
        <p:spPr>
          <a:xfrm>
            <a:off x="1295280" y="2286000"/>
            <a:ext cx="6181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2933280" y="182880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A study of wisd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http://t3.gstatic.com/images?q=tbn:ANd9GcRnoxO7rPpZ-WcFw7y5xcgV__LxWKjaIgdAsyHFnOnj6r5zwG5GXfxzqLm9"/>
          <p:cNvPicPr/>
          <p:nvPr/>
        </p:nvPicPr>
        <p:blipFill>
          <a:blip r:embed="rId1"/>
          <a:stretch/>
        </p:blipFill>
        <p:spPr>
          <a:xfrm>
            <a:off x="1066680" y="2666880"/>
            <a:ext cx="678204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2851560" y="152388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Area of land by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://www.crystalinks.com/greekcities.jpg"/>
          <p:cNvPicPr/>
          <p:nvPr/>
        </p:nvPicPr>
        <p:blipFill>
          <a:blip r:embed="rId1"/>
          <a:stretch/>
        </p:blipFill>
        <p:spPr>
          <a:xfrm>
            <a:off x="1523880" y="2084400"/>
            <a:ext cx="60199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2171880" y="167652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War between Athens and Sp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"/>
              </a:rPr>
              <a:t>A large hill which the Greeks built their city-states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www.greek-islands.us/athens/parthenon/parthenon.jpg"/>
          <p:cNvPicPr/>
          <p:nvPr/>
        </p:nvPicPr>
        <p:blipFill>
          <a:blip r:embed="rId1"/>
          <a:stretch/>
        </p:blipFill>
        <p:spPr>
          <a:xfrm>
            <a:off x="533520" y="1828800"/>
            <a:ext cx="80769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A place where Greeks meet for busi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0.tqn.com/d/atheism/1/0/0/L/AthAgora-l.jpg"/>
          <p:cNvPicPr/>
          <p:nvPr/>
        </p:nvPicPr>
        <p:blipFill>
          <a:blip r:embed="rId1"/>
          <a:stretch/>
        </p:blipFill>
        <p:spPr>
          <a:xfrm>
            <a:off x="1371600" y="1828800"/>
            <a:ext cx="632448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3048120" y="15238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A lawmaking place where people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http://www.sandiegohistory.org/collections/lomaland/images/op12305-9.jpg"/>
          <p:cNvPicPr/>
          <p:nvPr/>
        </p:nvPicPr>
        <p:blipFill>
          <a:blip r:embed="rId1"/>
          <a:stretch/>
        </p:blipFill>
        <p:spPr>
          <a:xfrm>
            <a:off x="1600200" y="2514600"/>
            <a:ext cx="61340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http://t1.gstatic.com/images?q=tbn:ANd9GcS1tvhL56dl08PEuH4rUvRKwW0nma8NXVFX9i1v-KHIUS-KXFaMJBo84YFy"/>
          <p:cNvPicPr/>
          <p:nvPr/>
        </p:nvPicPr>
        <p:blipFill>
          <a:blip r:embed="rId1"/>
          <a:stretch/>
        </p:blipFill>
        <p:spPr>
          <a:xfrm>
            <a:off x="2438280" y="1979640"/>
            <a:ext cx="3762360" cy="4878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023200" y="144792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A person who has certain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990720" y="15238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A group of people  who lived apart from Greek  but have same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http://upload.wikimedia.org/wikipedia/commons/a/a0/Marseilles_Greek_colony_323_BCE.jpg"/>
          <p:cNvPicPr/>
          <p:nvPr/>
        </p:nvPicPr>
        <p:blipFill>
          <a:blip r:embed="rId1"/>
          <a:stretch/>
        </p:blipFill>
        <p:spPr>
          <a:xfrm>
            <a:off x="1828800" y="2359080"/>
            <a:ext cx="54864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http://greece.mrdonn.org/athens1.gif"/>
          <p:cNvPicPr/>
          <p:nvPr/>
        </p:nvPicPr>
        <p:blipFill>
          <a:blip r:embed="rId1"/>
          <a:stretch/>
        </p:blipFill>
        <p:spPr>
          <a:xfrm>
            <a:off x="1752480" y="2743200"/>
            <a:ext cx="5953320" cy="315108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2413800" y="1676520"/>
            <a:ext cx="44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A form of government to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http://ec.europa.eu/environment/awards/images/jury_2010_product.jpg"/>
          <p:cNvPicPr/>
          <p:nvPr/>
        </p:nvPicPr>
        <p:blipFill>
          <a:blip r:embed="rId1"/>
          <a:stretch/>
        </p:blipFill>
        <p:spPr>
          <a:xfrm>
            <a:off x="1676520" y="2895480"/>
            <a:ext cx="5715000" cy="321012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3411000" y="167652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To hear evident to mak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2438280" y="18288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Gov. headed by one 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http://www1.curriculum.edu.au/ddunits/images/ls1fq2_6.gif"/>
          <p:cNvPicPr/>
          <p:nvPr/>
        </p:nvPicPr>
        <p:blipFill>
          <a:blip r:embed="rId1"/>
          <a:stretch/>
        </p:blipFill>
        <p:spPr>
          <a:xfrm>
            <a:off x="1676520" y="3048120"/>
            <a:ext cx="5767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7:15:14Z</dcterms:modified>
  <cp:revision>93</cp:revision>
  <dc:subject/>
  <dc:title>Ancient Greece</dc:title>
</cp:coreProperties>
</file>